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byipee04.wav" ContentType="audio/x-wav"/>
  <Override PartName="/ppt/media/CHIMES.WAV" ContentType="audio/x-wav"/>
  <Override PartName="/ppt/media/hzipup01.wav" ContentType="audio/x-wav"/>
  <Override PartName="/ppt/media/carbrake.wav" ContentType="audio/x-wav"/>
  <Override PartName="/ppt/media/telephone.wav" ContentType="audio/x-wav"/>
  <Override PartName="/ppt/media/zipdn102.wav" ContentType="audio/x-wav"/>
  <Override PartName="/ppt/media/zipup202.wav" ContentType="audio/x-wav"/>
  <Override PartName="/ppt/media/bserie06.wav" ContentType="audio/x-wav"/>
  <Override PartName="/ppt/media/zipby102.wav" ContentType="audio/x-wav"/>
  <Override PartName="/ppt/media/driveby.wav" ContentType="audio/x-wav"/>
  <Override PartName="/ppt/media/boinng0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4BF-8CE8-4EFA-BCAF-C78BDBEF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E21-8746-4C2A-950F-70985315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933-2C41-45B2-8A0E-45E226DC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A24-96E7-4AC9-B0B3-C91E3A14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532-48CF-4CAB-A75D-83C4B91F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EDD-53CF-4B86-9082-D1C42C24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872-00D4-4D6B-8C27-4181A493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036-A6EB-4A55-BD9A-8BA2B681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2CC-6C54-40DD-81DC-01FCA012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E35-F003-430F-AEC4-E4AB950A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B05-6429-47F1-AC50-BE7E9030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621-8FF3-4AF8-8D8D-25A92B20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B4C0-9F07-43D4-AD24-E8E17DF4D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arbrake.wav"/><Relationship Id="rId4" Type="http://schemas.openxmlformats.org/officeDocument/2006/relationships/audio" Target="../media/telephone.wav"/><Relationship Id="rId5" Type="http://schemas.openxmlformats.org/officeDocument/2006/relationships/audio" Target="../media/zipup202.wav"/><Relationship Id="rId6" Type="http://schemas.openxmlformats.org/officeDocument/2006/relationships/audio" Target="../media/zipup202.wav"/><Relationship Id="rId7" Type="http://schemas.openxmlformats.org/officeDocument/2006/relationships/audio" Target="../media/zipup20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up202.wav"/><Relationship Id="rId13" Type="http://schemas.openxmlformats.org/officeDocument/2006/relationships/audio" Target="../media/zipby102.wav"/><Relationship Id="rId14" Type="http://schemas.openxmlformats.org/officeDocument/2006/relationships/audio" Target="../media/zipby102.wav"/><Relationship Id="rId15" Type="http://schemas.openxmlformats.org/officeDocument/2006/relationships/audio" Target="../media/zipby102.wav"/><Relationship Id="rId16" Type="http://schemas.openxmlformats.org/officeDocument/2006/relationships/audio" Target="../media/zipby102.wav"/><Relationship Id="rId17" Type="http://schemas.openxmlformats.org/officeDocument/2006/relationships/audio" Target="../media/driveby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byipee04.wav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up202.wav"/><Relationship Id="rId3" Type="http://schemas.openxmlformats.org/officeDocument/2006/relationships/audio" Target="../media/zipup20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zipup202.wav"/><Relationship Id="rId8" Type="http://schemas.openxmlformats.org/officeDocument/2006/relationships/audio" Target="../media/zipby102.wav"/><Relationship Id="rId9" Type="http://schemas.openxmlformats.org/officeDocument/2006/relationships/audio" Target="../media/zipby102.wav"/><Relationship Id="rId10" Type="http://schemas.openxmlformats.org/officeDocument/2006/relationships/audio" Target="../media/driveby.wav"/><Relationship Id="rId11" Type="http://schemas.openxmlformats.org/officeDocument/2006/relationships/audio" Target="../media/driveby.wav"/><Relationship Id="rId12" Type="http://schemas.openxmlformats.org/officeDocument/2006/relationships/audio" Target="../media/driveby.wav"/><Relationship Id="rId13" Type="http://schemas.openxmlformats.org/officeDocument/2006/relationships/audio" Target="../media/byipee04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rbrake.wav"/><Relationship Id="rId3" Type="http://schemas.openxmlformats.org/officeDocument/2006/relationships/audio" Target="../media/telephone.wav"/><Relationship Id="rId4" Type="http://schemas.openxmlformats.org/officeDocument/2006/relationships/audio" Target="../media/zipdn102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bserie06.wav"/><Relationship Id="rId10" Type="http://schemas.openxmlformats.org/officeDocument/2006/relationships/audio" Target="../media/boinng04.wav"/><Relationship Id="rId11" Type="http://schemas.openxmlformats.org/officeDocument/2006/relationships/audio" Target="../media/bserie06.wav"/><Relationship Id="rId12" Type="http://schemas.openxmlformats.org/officeDocument/2006/relationships/audio" Target="../media/boinng04.wav"/><Relationship Id="rId13" Type="http://schemas.openxmlformats.org/officeDocument/2006/relationships/audio" Target="../media/bserie06.wav"/><Relationship Id="rId14" Type="http://schemas.openxmlformats.org/officeDocument/2006/relationships/audio" Target="../media/byipee04.wav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dn102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boinng04.wav"/><Relationship Id="rId8" Type="http://schemas.openxmlformats.org/officeDocument/2006/relationships/audio" Target="../media/bserie06.wav"/><Relationship Id="rId9" Type="http://schemas.openxmlformats.org/officeDocument/2006/relationships/audio" Target="../media/boinng04.wav"/><Relationship Id="rId10" Type="http://schemas.openxmlformats.org/officeDocument/2006/relationships/audio" Target="../media/bserie06.wav"/><Relationship Id="rId11" Type="http://schemas.openxmlformats.org/officeDocument/2006/relationships/audio" Target="../media/byipee04.wav"/><Relationship Id="rId12" Type="http://schemas.openxmlformats.org/officeDocument/2006/relationships/audio" Target="../media/byipee04.wav"/><Relationship Id="rId13" Type="http://schemas.openxmlformats.org/officeDocument/2006/relationships/audio" Target="../media/byipee04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boinng04.wav"/><Relationship Id="rId3" Type="http://schemas.openxmlformats.org/officeDocument/2006/relationships/audio" Target="../media/boinng04.wav"/><Relationship Id="rId4" Type="http://schemas.openxmlformats.org/officeDocument/2006/relationships/audio" Target="../media/driveby.wav"/><Relationship Id="rId5" Type="http://schemas.openxmlformats.org/officeDocument/2006/relationships/audio" Target="../media/zipdn102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bserie06.wav"/><Relationship Id="rId10" Type="http://schemas.openxmlformats.org/officeDocument/2006/relationships/audio" Target="../media/boinng04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rbrake.wav"/><Relationship Id="rId3" Type="http://schemas.openxmlformats.org/officeDocument/2006/relationships/audio" Target="../media/telephone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zipdn102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bserie06.wav"/><Relationship Id="rId12" Type="http://schemas.openxmlformats.org/officeDocument/2006/relationships/audio" Target="../media/boinng04.wav"/><Relationship Id="rId13" Type="http://schemas.openxmlformats.org/officeDocument/2006/relationships/audio" Target="../media/bserie06.wav"/><Relationship Id="rId14" Type="http://schemas.openxmlformats.org/officeDocument/2006/relationships/audio" Target="../media/boinng04.wav"/><Relationship Id="rId15" Type="http://schemas.openxmlformats.org/officeDocument/2006/relationships/audio" Target="../media/bserie06.wav"/><Relationship Id="rId16" Type="http://schemas.openxmlformats.org/officeDocument/2006/relationships/audio" Target="../media/byipee04.wav"/><Relationship Id="rId17" Type="http://schemas.openxmlformats.org/officeDocument/2006/relationships/audio" Target="../media/byipee04.wav"/><Relationship Id="rId18" Type="http://schemas.openxmlformats.org/officeDocument/2006/relationships/audio" Target="../media/byipee04.wav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zipdn102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bserie06.wav"/><Relationship Id="rId9" Type="http://schemas.openxmlformats.org/officeDocument/2006/relationships/audio" Target="../media/boinng04.wav"/><Relationship Id="rId10" Type="http://schemas.openxmlformats.org/officeDocument/2006/relationships/audio" Target="../media/bserie06.wav"/><Relationship Id="rId11" Type="http://schemas.openxmlformats.org/officeDocument/2006/relationships/audio" Target="../media/boinng04.wav"/><Relationship Id="rId12" Type="http://schemas.openxmlformats.org/officeDocument/2006/relationships/audio" Target="../media/bserie06.wav"/><Relationship Id="rId13" Type="http://schemas.openxmlformats.org/officeDocument/2006/relationships/audio" Target="../media/byipee04.wav"/><Relationship Id="rId14" Type="http://schemas.openxmlformats.org/officeDocument/2006/relationships/audio" Target="../media/byipee04.wav"/><Relationship Id="rId15" Type="http://schemas.openxmlformats.org/officeDocument/2006/relationships/audio" Target="../media/byipee04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boinng04.wav"/><Relationship Id="rId5" Type="http://schemas.openxmlformats.org/officeDocument/2006/relationships/audio" Target="../media/boinng04.wav"/><Relationship Id="rId6" Type="http://schemas.openxmlformats.org/officeDocument/2006/relationships/audio" Target="../media/driveby.wav"/><Relationship Id="rId7" Type="http://schemas.openxmlformats.org/officeDocument/2006/relationships/audio" Target="../media/zipdn102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boinng04.wav"/><Relationship Id="rId14" Type="http://schemas.openxmlformats.org/officeDocument/2006/relationships/audio" Target="../media/bserie06.wav"/><Relationship Id="rId15" Type="http://schemas.openxmlformats.org/officeDocument/2006/relationships/audio" Target="../media/byipee04.wav"/><Relationship Id="rId16" Type="http://schemas.openxmlformats.org/officeDocument/2006/relationships/audio" Target="../media/byipee04.wav"/><Relationship Id="rId17" Type="http://schemas.openxmlformats.org/officeDocument/2006/relationships/audio" Target="../media/driveby.wav"/><Relationship Id="rId18" Type="http://schemas.openxmlformats.org/officeDocument/2006/relationships/audio" Target="../media/driveby.wav"/><Relationship Id="rId19" Type="http://schemas.openxmlformats.org/officeDocument/2006/relationships/audio" Target="../media/byipee04.wav"/><Relationship Id="rId20" Type="http://schemas.openxmlformats.org/officeDocument/2006/relationships/audio" Target="../media/byipee04.wav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4546440" y="4614840"/>
                <a:ext cx="29545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15800" y="1639800"/>
                <a:ext cx="63280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ing and Subtracting Rationa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55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313240" y="3425760"/>
            <a:ext cx="1465560" cy="2923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505400" y="1897200"/>
                <a:ext cx="44136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46040" y="3065400"/>
                <a:ext cx="379260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/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35240" y="3255840"/>
                <a:ext cx="828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 flipV="1">
            <a:off x="4707000" y="4240080"/>
            <a:ext cx="2724120" cy="363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132520" y="1797120"/>
                <a:ext cx="485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625920" y="2144880"/>
                <a:ext cx="485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055960" y="3236760"/>
                <a:ext cx="18126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149720" y="3160800"/>
                <a:ext cx="341784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737240" y="4773600"/>
                <a:ext cx="477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118120" y="4632480"/>
                <a:ext cx="860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151680" y="4765680"/>
                <a:ext cx="477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510240" y="4649760"/>
                <a:ext cx="908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 flipV="1">
            <a:off x="6045120" y="4779720"/>
            <a:ext cx="1479600" cy="352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96920" y="5029200"/>
                <a:ext cx="191628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14480" y="4740120"/>
                <a:ext cx="295452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217520" y="1639800"/>
                <a:ext cx="46497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ing and Subtracting Rationa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55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681280" y="3551040"/>
            <a:ext cx="1465200" cy="2919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416480" y="1908000"/>
                <a:ext cx="441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74720" y="3165480"/>
                <a:ext cx="275904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/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629080" y="3521160"/>
                <a:ext cx="51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 flipV="1">
            <a:off x="2262240" y="4365720"/>
            <a:ext cx="2111400" cy="363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625920" y="2144880"/>
                <a:ext cx="4856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121200" y="3375000"/>
                <a:ext cx="931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111400" y="4764240"/>
                <a:ext cx="1243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514680" y="4768920"/>
                <a:ext cx="1289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 flipV="1">
            <a:off x="1996920" y="4943520"/>
            <a:ext cx="1416240" cy="3398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052960" y="3300480"/>
                <a:ext cx="196848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80960" y="1654200"/>
                <a:ext cx="2684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ing Expressions with Unlike Denom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55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46280" y="3065400"/>
                <a:ext cx="281448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555920" y="1558800"/>
                <a:ext cx="879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398600" y="3232080"/>
                <a:ext cx="7761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93800" y="4797360"/>
                <a:ext cx="1709640" cy="16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484520" y="1292400"/>
            <a:ext cx="4427640" cy="12366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LCD contains each factor the greatest number of times it appears in either denominator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749840" y="2662200"/>
                <a:ext cx="24922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D 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7157880" y="2657520"/>
                <a:ext cx="479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493040" y="2793960"/>
                <a:ext cx="814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046920" y="3224160"/>
                <a:ext cx="1485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894040" y="1550880"/>
                <a:ext cx="828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098800" y="3227400"/>
                <a:ext cx="11905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63680" y="4883040"/>
                <a:ext cx="377964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/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04840" y="1654200"/>
                <a:ext cx="36432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ing Expressions with Unlike Denom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155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17520" y="3067200"/>
                <a:ext cx="419400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06600" y="1589040"/>
                <a:ext cx="1484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43120" y="3206880"/>
                <a:ext cx="165708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467000" y="5002200"/>
                <a:ext cx="828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4557600" y="1292400"/>
            <a:ext cx="4427640" cy="12366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LCD contains each factor the greatest number of times it appears in either denominator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483080" y="2647800"/>
                <a:ext cx="177336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D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132600" y="2600280"/>
                <a:ext cx="14857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15360" y="2606760"/>
                <a:ext cx="16286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01840" y="1608120"/>
                <a:ext cx="1359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459160" y="3198960"/>
                <a:ext cx="2070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93920" y="5010120"/>
                <a:ext cx="1190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0" y="1590840"/>
                <a:ext cx="39783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dding Expressions with Unlike Denom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55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61840" y="3813120"/>
                <a:ext cx="293076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46400" y="2965320"/>
                <a:ext cx="18334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751040" y="4011480"/>
                <a:ext cx="828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557600" y="1292400"/>
            <a:ext cx="4427640" cy="12366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LCD contains each factor the greatest number of times it appears in either denominator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802040" y="2647800"/>
                <a:ext cx="177336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D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505560" y="2695680"/>
                <a:ext cx="4795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848640" y="2622600"/>
                <a:ext cx="16286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592280" y="1622520"/>
                <a:ext cx="7462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500200" y="3997440"/>
                <a:ext cx="82728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25560" y="3019320"/>
                <a:ext cx="11797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 flipV="1">
            <a:off x="2379600" y="2593800"/>
            <a:ext cx="1515960" cy="2923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4440" y="1625760"/>
                <a:ext cx="306864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tracting Expressions with Unlike Denom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55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6080" y="3065400"/>
                <a:ext cx="36763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23800" y="1581120"/>
                <a:ext cx="18129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85680" y="3206880"/>
                <a:ext cx="16034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49360" y="4884840"/>
                <a:ext cx="222732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484520" y="1292400"/>
            <a:ext cx="4427640" cy="12366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LCD contains each factor the greatest number of times it appears in either denominator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846680" y="2662200"/>
                <a:ext cx="1773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D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527880" y="2673360"/>
                <a:ext cx="431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834240" y="2557440"/>
                <a:ext cx="1004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94440" y="3176640"/>
                <a:ext cx="1390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941560" y="1758960"/>
                <a:ext cx="8812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41600" y="3213000"/>
                <a:ext cx="12938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325600" y="1874880"/>
                <a:ext cx="5176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031840" y="2085840"/>
                <a:ext cx="5702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06360" y="5191200"/>
                <a:ext cx="5191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25760" y="5025960"/>
                <a:ext cx="93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0920" y="1625760"/>
                <a:ext cx="35478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tracting Expressions with Unlike Denom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55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7480" y="3008160"/>
                <a:ext cx="413532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492200" y="1611360"/>
                <a:ext cx="1309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71400" y="3219480"/>
                <a:ext cx="17067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49120" y="4834080"/>
                <a:ext cx="372924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/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4484520" y="1292400"/>
            <a:ext cx="4427640" cy="12366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LCD contains each factor the greatest number of times it appears in either denominator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71840" y="2649600"/>
                <a:ext cx="1773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D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026040" y="2602080"/>
                <a:ext cx="1486080" cy="80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412040" y="2610000"/>
                <a:ext cx="15778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149640" y="1652760"/>
                <a:ext cx="12430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90600" y="3213000"/>
                <a:ext cx="20703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589120" y="1862280"/>
                <a:ext cx="5176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057400" y="2073240"/>
                <a:ext cx="569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297080" y="5116680"/>
                <a:ext cx="9842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74760" y="4965840"/>
                <a:ext cx="9320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0" y="1596960"/>
                <a:ext cx="42670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tracting Expressions with Unlike Denom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155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14400" y="3454560"/>
                <a:ext cx="292896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12880" y="3652920"/>
                <a:ext cx="774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906480" y="5153040"/>
                <a:ext cx="264168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484520" y="1292400"/>
            <a:ext cx="4427640" cy="12366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LCD contains each factor the greatest number of times it appears in either denominator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710240" y="2624040"/>
                <a:ext cx="1773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D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404040" y="2744640"/>
                <a:ext cx="4777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24800" y="2584440"/>
                <a:ext cx="1627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45000" y="1835280"/>
                <a:ext cx="6807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367000" y="3659040"/>
                <a:ext cx="12938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941560" y="1825560"/>
                <a:ext cx="5176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468520" y="2035080"/>
                <a:ext cx="569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55560" y="2940120"/>
                <a:ext cx="18334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135080" y="2994120"/>
                <a:ext cx="1179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 flipV="1">
            <a:off x="750960" y="2619000"/>
            <a:ext cx="1654200" cy="2667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62000" y="5459400"/>
                <a:ext cx="9842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 flipV="1">
            <a:off x="2435400" y="5563800"/>
            <a:ext cx="417240" cy="3063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479600" y="6308280"/>
            <a:ext cx="417600" cy="3063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930480" y="5141880"/>
                <a:ext cx="198144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541760" y="5977080"/>
                <a:ext cx="13208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3-01T17:51:56Z</dcterms:modified>
  <cp:revision>327</cp:revision>
  <dc:subject/>
  <dc:title>No Slide Title</dc:title>
</cp:coreProperties>
</file>